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3.xml.rels" ContentType="application/vnd.openxmlformats-package.relationships+xml"/>
  <Override PartName="/ppt/notesSlides/notesSlide5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5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AutoShape 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AutoShape 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AutoShape 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AutoShape 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AutoShape 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AutoShape 1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AutoShape 1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AutoShape 1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AutoShape 1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AutoShape 1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AutoShape 1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AutoShape 1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AutoShape 1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AutoShape 1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AutoShape 1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1560" cy="42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41560" cy="42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4176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move the slid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6160" cy="40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41560" cy="42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41560" cy="42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228B00-5E16-43EC-9B06-CB2B0C4BDBD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25"/>
          <p:cNvSpPr/>
          <p:nvPr/>
        </p:nvSpPr>
        <p:spPr>
          <a:xfrm>
            <a:off x="3884760" y="8685360"/>
            <a:ext cx="29415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1346F9-7409-44EA-91B9-11A30D16801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5796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25"/>
          <p:cNvSpPr/>
          <p:nvPr/>
        </p:nvSpPr>
        <p:spPr>
          <a:xfrm>
            <a:off x="3884760" y="8685360"/>
            <a:ext cx="29415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F7E6F7-6E0D-4CF4-A6E7-C92D504D154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Text Box 1"/>
          <p:cNvSpPr/>
          <p:nvPr/>
        </p:nvSpPr>
        <p:spPr>
          <a:xfrm>
            <a:off x="1143000" y="685800"/>
            <a:ext cx="4549680" cy="340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5796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25"/>
          <p:cNvSpPr/>
          <p:nvPr/>
        </p:nvSpPr>
        <p:spPr>
          <a:xfrm>
            <a:off x="3884760" y="8685360"/>
            <a:ext cx="29415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BA58A7-7023-4C11-A9B6-4720A698045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Text Box 1"/>
          <p:cNvSpPr/>
          <p:nvPr/>
        </p:nvSpPr>
        <p:spPr>
          <a:xfrm>
            <a:off x="1143000" y="685800"/>
            <a:ext cx="4559400" cy="3416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5796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25"/>
          <p:cNvSpPr/>
          <p:nvPr/>
        </p:nvSpPr>
        <p:spPr>
          <a:xfrm>
            <a:off x="3884760" y="8685360"/>
            <a:ext cx="29415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BC48D1-3156-4DB4-89A9-50F088ABDC3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Text Box 1"/>
          <p:cNvSpPr/>
          <p:nvPr/>
        </p:nvSpPr>
        <p:spPr>
          <a:xfrm>
            <a:off x="1143000" y="685800"/>
            <a:ext cx="4549680" cy="340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5796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25"/>
          <p:cNvSpPr/>
          <p:nvPr/>
        </p:nvSpPr>
        <p:spPr>
          <a:xfrm>
            <a:off x="3884760" y="8685360"/>
            <a:ext cx="29415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8B16A6-7317-448A-82BB-8B8F0B8CF2C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Text Box 1"/>
          <p:cNvSpPr/>
          <p:nvPr/>
        </p:nvSpPr>
        <p:spPr>
          <a:xfrm>
            <a:off x="1143000" y="685800"/>
            <a:ext cx="4546440" cy="3403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5796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25"/>
          <p:cNvSpPr/>
          <p:nvPr/>
        </p:nvSpPr>
        <p:spPr>
          <a:xfrm>
            <a:off x="3884760" y="8685360"/>
            <a:ext cx="29415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650FBD-D9B9-4121-BB55-5BA01A3E330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Text Box 1"/>
          <p:cNvSpPr/>
          <p:nvPr/>
        </p:nvSpPr>
        <p:spPr>
          <a:xfrm>
            <a:off x="1143000" y="685800"/>
            <a:ext cx="4564080" cy="34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5796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25"/>
          <p:cNvSpPr/>
          <p:nvPr/>
        </p:nvSpPr>
        <p:spPr>
          <a:xfrm>
            <a:off x="3884760" y="8685360"/>
            <a:ext cx="29415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721805-B726-4CD5-8441-94C5BE1790F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Text Box 1"/>
          <p:cNvSpPr/>
          <p:nvPr/>
        </p:nvSpPr>
        <p:spPr>
          <a:xfrm>
            <a:off x="1143000" y="685800"/>
            <a:ext cx="4546440" cy="3403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5796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25"/>
          <p:cNvSpPr/>
          <p:nvPr/>
        </p:nvSpPr>
        <p:spPr>
          <a:xfrm>
            <a:off x="3884760" y="8685360"/>
            <a:ext cx="29415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6F1C08-55F8-48E2-B6C4-2EA5B75BAEE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Text Box 1"/>
          <p:cNvSpPr/>
          <p:nvPr/>
        </p:nvSpPr>
        <p:spPr>
          <a:xfrm>
            <a:off x="1143000" y="685800"/>
            <a:ext cx="4552920" cy="3409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5796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25"/>
          <p:cNvSpPr/>
          <p:nvPr/>
        </p:nvSpPr>
        <p:spPr>
          <a:xfrm>
            <a:off x="3884760" y="8685360"/>
            <a:ext cx="29415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B68857-AD93-46AF-81BC-915668193F7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Text Box 1"/>
          <p:cNvSpPr/>
          <p:nvPr/>
        </p:nvSpPr>
        <p:spPr>
          <a:xfrm>
            <a:off x="1143000" y="685800"/>
            <a:ext cx="4546440" cy="3403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5796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23"/>
          <p:cNvSpPr/>
          <p:nvPr/>
        </p:nvSpPr>
        <p:spPr>
          <a:xfrm>
            <a:off x="3884760" y="8685360"/>
            <a:ext cx="29415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3C31F3-041B-4CF3-83E1-4E76429EF8A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Text Box 1"/>
          <p:cNvSpPr/>
          <p:nvPr/>
        </p:nvSpPr>
        <p:spPr>
          <a:xfrm>
            <a:off x="3884760" y="8685360"/>
            <a:ext cx="2950920" cy="43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E4FD90-A56C-493C-B773-89C076A5E2D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6084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25"/>
          <p:cNvSpPr/>
          <p:nvPr/>
        </p:nvSpPr>
        <p:spPr>
          <a:xfrm>
            <a:off x="3884760" y="8685360"/>
            <a:ext cx="29415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A11E60-7035-4EA3-8A35-439C4DEEAB9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Text Box 1"/>
          <p:cNvSpPr/>
          <p:nvPr/>
        </p:nvSpPr>
        <p:spPr>
          <a:xfrm>
            <a:off x="1143000" y="685800"/>
            <a:ext cx="4548240" cy="340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5796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25"/>
          <p:cNvSpPr/>
          <p:nvPr/>
        </p:nvSpPr>
        <p:spPr>
          <a:xfrm>
            <a:off x="3884760" y="8685360"/>
            <a:ext cx="29415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2990DD-5DD5-4FF1-B5BE-B5723745832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Text Box 1"/>
          <p:cNvSpPr/>
          <p:nvPr/>
        </p:nvSpPr>
        <p:spPr>
          <a:xfrm>
            <a:off x="1143000" y="685800"/>
            <a:ext cx="4548240" cy="340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5796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25"/>
          <p:cNvSpPr/>
          <p:nvPr/>
        </p:nvSpPr>
        <p:spPr>
          <a:xfrm>
            <a:off x="3884760" y="8685360"/>
            <a:ext cx="29415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A3BAF4-EFD6-4D2E-A82D-BEC10F9BA4D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Text Box 1"/>
          <p:cNvSpPr/>
          <p:nvPr/>
        </p:nvSpPr>
        <p:spPr>
          <a:xfrm>
            <a:off x="1143000" y="685800"/>
            <a:ext cx="4546440" cy="3403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5796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25"/>
          <p:cNvSpPr/>
          <p:nvPr/>
        </p:nvSpPr>
        <p:spPr>
          <a:xfrm>
            <a:off x="3884760" y="8685360"/>
            <a:ext cx="29415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8F4A35-BB71-4453-9CE0-380D78F68F9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Text Box 1"/>
          <p:cNvSpPr/>
          <p:nvPr/>
        </p:nvSpPr>
        <p:spPr>
          <a:xfrm>
            <a:off x="1143000" y="685800"/>
            <a:ext cx="4559400" cy="3416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5796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25"/>
          <p:cNvSpPr/>
          <p:nvPr/>
        </p:nvSpPr>
        <p:spPr>
          <a:xfrm>
            <a:off x="3884760" y="8685360"/>
            <a:ext cx="29415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0D7442-63BE-4040-A2D1-D60C89C6380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Text Box 1"/>
          <p:cNvSpPr/>
          <p:nvPr/>
        </p:nvSpPr>
        <p:spPr>
          <a:xfrm>
            <a:off x="1143000" y="685800"/>
            <a:ext cx="4548240" cy="340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5796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25"/>
          <p:cNvSpPr/>
          <p:nvPr/>
        </p:nvSpPr>
        <p:spPr>
          <a:xfrm>
            <a:off x="3884760" y="8685360"/>
            <a:ext cx="29415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19BB77-5DA9-4857-B311-3AA6B582D70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Text Box 1"/>
          <p:cNvSpPr/>
          <p:nvPr/>
        </p:nvSpPr>
        <p:spPr>
          <a:xfrm>
            <a:off x="1143000" y="685800"/>
            <a:ext cx="4548240" cy="340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5796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23"/>
          <p:cNvSpPr/>
          <p:nvPr/>
        </p:nvSpPr>
        <p:spPr>
          <a:xfrm>
            <a:off x="3884760" y="8685360"/>
            <a:ext cx="29415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6D19A0-6460-46B9-8406-67EF6E4515E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Text Box 1"/>
          <p:cNvSpPr/>
          <p:nvPr/>
        </p:nvSpPr>
        <p:spPr>
          <a:xfrm>
            <a:off x="1143000" y="685800"/>
            <a:ext cx="4551480" cy="3408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6084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25"/>
          <p:cNvSpPr/>
          <p:nvPr/>
        </p:nvSpPr>
        <p:spPr>
          <a:xfrm>
            <a:off x="3884760" y="8685360"/>
            <a:ext cx="29415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D9A5FF-43D9-4D7F-A7E8-71D8979B10F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Text Box 1"/>
          <p:cNvSpPr/>
          <p:nvPr/>
        </p:nvSpPr>
        <p:spPr>
          <a:xfrm>
            <a:off x="1143000" y="685800"/>
            <a:ext cx="4557600" cy="3414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5796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25"/>
          <p:cNvSpPr/>
          <p:nvPr/>
        </p:nvSpPr>
        <p:spPr>
          <a:xfrm>
            <a:off x="3884760" y="8685360"/>
            <a:ext cx="29415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454E67-7E62-49F4-9DD6-CD3CC38DBDA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Text Box 1"/>
          <p:cNvSpPr/>
          <p:nvPr/>
        </p:nvSpPr>
        <p:spPr>
          <a:xfrm>
            <a:off x="1143000" y="685800"/>
            <a:ext cx="4564080" cy="34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5796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92246-0486-4723-A2D8-BB5B73CA4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13560" cy="12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199360" cy="20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007880"/>
            <a:ext cx="8199360" cy="20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6FE84-765B-41A1-BD02-52EFDA1B6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13560" cy="12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4001040" cy="20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58760" y="1719000"/>
            <a:ext cx="4001040" cy="20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07880"/>
            <a:ext cx="4001040" cy="20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58760" y="4007880"/>
            <a:ext cx="4001040" cy="20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69752-32A4-4C75-B431-C9ADF412D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13560" cy="12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2639880" cy="20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29560" y="1719000"/>
            <a:ext cx="2639880" cy="20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01560" y="1719000"/>
            <a:ext cx="2639880" cy="20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007880"/>
            <a:ext cx="2639880" cy="20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29560" y="4007880"/>
            <a:ext cx="2639880" cy="20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01560" y="4007880"/>
            <a:ext cx="2639880" cy="20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CB662-B8F2-46C0-87E5-76C9FD23F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13560" cy="12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19000"/>
            <a:ext cx="81993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D4BF8-7EAE-4FB7-B60D-BFC387E8A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13560" cy="12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199360" cy="438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3047E-2F7B-494D-9B1E-417E7443D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13560" cy="12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4001040" cy="438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58760" y="1719000"/>
            <a:ext cx="4001040" cy="438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41FF6-72F7-47B8-9D23-1218332B3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13560" cy="12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19790-1861-4A45-9308-ABF18DB63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476000" y="115920"/>
            <a:ext cx="7513560" cy="58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DF868-DB1B-4A76-978B-6CAE52DF7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13560" cy="12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4001040" cy="20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58760" y="1719000"/>
            <a:ext cx="4001040" cy="438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007880"/>
            <a:ext cx="4001040" cy="20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66A3F-F7B2-4C70-B921-8955AA758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13560" cy="12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4001040" cy="438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58760" y="1719000"/>
            <a:ext cx="4001040" cy="20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58760" y="4007880"/>
            <a:ext cx="4001040" cy="20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7E5A3-B1BF-4DA9-8E64-F3863D868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13560" cy="12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4001040" cy="20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58760" y="1719000"/>
            <a:ext cx="4001040" cy="20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07880"/>
            <a:ext cx="8199360" cy="20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44C10-27C8-4975-A315-1F3C09565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4753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13560" cy="12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000"/>
            <a:ext cx="8199360" cy="438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751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80000"/>
              </a:lnSpc>
              <a:spcBef>
                <a:spcPts val="751"/>
              </a:spcBef>
              <a:buClr>
                <a:srgbClr val="c00000"/>
              </a:buClr>
              <a:buSzPct val="13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1718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1718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1718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03480" cy="42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65600" cy="42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03480" cy="42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8775CC-B2C2-438D-8B34-35E2ABB20F6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" name="Picture 9" descr="C:\Users\birdtr\Desktop\LCJ-from-timdesk\2011-06-LCJ\CEWG-square-image.jpg"/>
          <p:cNvPicPr/>
          <p:nvPr/>
        </p:nvPicPr>
        <p:blipFill>
          <a:blip r:embed="rId3"/>
          <a:stretch/>
        </p:blipFill>
        <p:spPr>
          <a:xfrm>
            <a:off x="9360" y="166680"/>
            <a:ext cx="1401840" cy="1066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1"/>
          <p:cNvSpPr/>
          <p:nvPr/>
        </p:nvSpPr>
        <p:spPr>
          <a:xfrm>
            <a:off x="0" y="0"/>
            <a:ext cx="1908000" cy="162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76360" y="653760"/>
            <a:ext cx="6781680" cy="21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tatus of Embedded Linux</a:t>
            </a:r>
            <a:endParaRPr b="1" lang="en-US" sz="4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900000" y="3068640"/>
            <a:ext cx="7848720" cy="26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1000"/>
              </a:lnSpc>
              <a:spcBef>
                <a:spcPts val="75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Status of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1000"/>
              </a:lnSpc>
              <a:spcBef>
                <a:spcPts val="75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Embedded Linux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1000"/>
              </a:lnSpc>
              <a:spcBef>
                <a:spcPts val="75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ptember 20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1692360" y="5589720"/>
            <a:ext cx="62481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Tim Bi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Architecture Group Chai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LF CE Workgrou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Picture 1" descr=""/>
          <p:cNvPicPr/>
          <p:nvPr/>
        </p:nvPicPr>
        <p:blipFill>
          <a:blip r:embed="rId1"/>
          <a:stretch/>
        </p:blipFill>
        <p:spPr>
          <a:xfrm>
            <a:off x="344520" y="676440"/>
            <a:ext cx="8454960" cy="183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13560" cy="12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Linux v3.5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719000"/>
            <a:ext cx="8199360" cy="438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ernel log re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ructured printk (new format), with tag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ttp://lwn.net/Articles/492125/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upport for writing NFC driv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tegration of ramoops and pst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art of work to support Android ram_conso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prob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ser-space prob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ttps://lwn.net/Articles/499190/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utoslee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13560" cy="12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Linux v3.6 (probable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719000"/>
            <a:ext cx="8199360" cy="438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ndroid RAM console functionality integrated into pst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aven’t found much else yet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13560" cy="12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Things to watch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199360" cy="438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vice tre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ndroid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Volatile rang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RM FIQ -&gt; KDB glu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ig.LITT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ngle kernel image for AR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sult of lots of device tree and ARM refactoring wor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e LinuxCon Japan talk by Deepak Saxen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13560" cy="12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Outlin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752480" y="1719000"/>
            <a:ext cx="6904080" cy="438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800" spc="-1" strike="noStrike">
                <a:solidFill>
                  <a:srgbClr val="bfbfbf"/>
                </a:solidFill>
                <a:latin typeface="Arial"/>
              </a:rPr>
              <a:t>Kernel Version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echnology Area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800" spc="-1" strike="noStrike">
                <a:solidFill>
                  <a:srgbClr val="bfbfbf"/>
                </a:solidFill>
                <a:latin typeface="Arial"/>
              </a:rPr>
              <a:t>CE Workgroup Project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800" spc="-1" strike="noStrike">
                <a:solidFill>
                  <a:srgbClr val="bfbfbf"/>
                </a:solidFill>
                <a:latin typeface="Arial"/>
              </a:rPr>
              <a:t>Other Stuff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800" spc="-1" strike="noStrike">
                <a:solidFill>
                  <a:srgbClr val="bfbfbf"/>
                </a:solidFill>
                <a:latin typeface="Arial"/>
              </a:rPr>
              <a:t>Resourc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13560" cy="12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Bootup Tim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199360" cy="438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ree-electrons present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reat overview of known techniqu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ttp://free-electrons.com/pub/conferences/2011/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enivi/boot-time.pdf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ee-electons service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80000"/>
              </a:lnSpc>
              <a:spcBef>
                <a:spcPts val="575"/>
              </a:spcBef>
              <a:buClr>
                <a:srgbClr val="c00000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udit, Report, Knowledge transfe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ystemd in embed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ystemd starts services and daemons on-dema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w first demo of systemd on Angstrom at ELCE 201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13560" cy="12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Bootup Time technologi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719000"/>
            <a:ext cx="8199360" cy="438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napshot boo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ld topic, but still very popul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quires work both inside and outside kern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80000"/>
              </a:lnSpc>
              <a:spcBef>
                <a:spcPts val="575"/>
              </a:spcBef>
              <a:buClr>
                <a:srgbClr val="c00000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Not much mainlined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e ELC 2011 presentation by Kang Dongwoo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uspend-to-bot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uspend to both RAM and dis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RAM loses power, can unhibernate from dis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13560" cy="12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Graphic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199360" cy="48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thing new here at the API layer (?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3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penGL ES is de-facto standard everywhe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roid had Skia, but is moving to HWU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ther platforms can use Clutter, Qt, and X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amebuffer is going away, with acceleration required for larger scree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13560" cy="12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Graphics (cont.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719000"/>
            <a:ext cx="8199360" cy="438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ots of work around memory management between kernel, user-space and GPU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ndroid has /dev/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unified approach to buffer management and sharing between display, GPU, camera, codecs, etc, new in Ice Cream Sandwic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placement for pme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ainline has Contiguous Memory Allocator (CMA) and dma-buf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ttp://lwn.net/Articles/468044/ - CM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ttp://lwn.net/Articles/470339/ - dma-buf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13560" cy="12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File System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719000"/>
            <a:ext cx="8199360" cy="438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aditional flash-based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BIF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80000"/>
              </a:lnSpc>
              <a:spcBef>
                <a:spcPts val="575"/>
              </a:spcBef>
              <a:buClr>
                <a:srgbClr val="c00000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Replacing JFFS2 as default raw flash FS of choic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80000"/>
              </a:lnSpc>
              <a:spcBef>
                <a:spcPts val="575"/>
              </a:spcBef>
              <a:buClr>
                <a:srgbClr val="c00000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till needs some boot time improvement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XF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80000"/>
              </a:lnSpc>
              <a:spcBef>
                <a:spcPts val="575"/>
              </a:spcBef>
              <a:buClr>
                <a:srgbClr val="c00000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dvanced XIP File system – developed by Intel/Numonyx but never mainlined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80000"/>
              </a:lnSpc>
              <a:spcBef>
                <a:spcPts val="575"/>
              </a:spcBef>
              <a:buClr>
                <a:srgbClr val="c00000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ony uses this, we've been preparing it for a mainlining effor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13560" cy="12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File Systems (cont.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199360" cy="438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ots of companies using EXT4 on eMM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ant to optimize Linux block filesystem layers for flas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e Arnd Bergmann's talk at ELC Europe 2011 on filesystem performance on cheap flash medi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e Ken Tough’s ELC 2012 tal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E WG project to analyze filesystem performance on eMM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13560" cy="12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Outlin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752480" y="1719000"/>
            <a:ext cx="6904080" cy="438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Kernel Version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echnology Area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E Workgroup Project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ther Stuff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13560" cy="12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ower Managemen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19936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untime Power Managem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latively new ability to suspend and resume individual system compon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e http://lwn.net/Articles/347573/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e Magnus Damm’s slides at: http://elinux.org/ELC_2011_Presenta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vice power domain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t of devices sharing power resources (clocks, power planes, etc.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e Rafael Wysocki’s talks at LinuxCon Japan 2011 and ELC Europe 201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13560" cy="12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ower Managemen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719000"/>
            <a:ext cx="8199360" cy="438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utoslee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akelock-compatible solution by Rafael Wysock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80000"/>
              </a:lnSpc>
              <a:spcBef>
                <a:spcPts val="575"/>
              </a:spcBef>
              <a:buClr>
                <a:srgbClr val="c00000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http://lwn.net/Articles/479841/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afael: “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This series tests the theory that the easiest way to sell a once rejected feature is to advertise it under a different nam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inlined in v3.5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ower-aware scheduling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ttp://lwn.net/Articles/512487/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13560" cy="12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ystem Siz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719000"/>
            <a:ext cx="8458200" cy="498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ood talks recently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rren Hart at ELCE 2011 – poky-tin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ernel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i Kleen’s Link-Time Optimization patch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E WG project for kernel dynamic memory analysi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LVM compilation of the kern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ser space is memory problem area n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OM killer or OOM avoidance is big issu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80000"/>
              </a:lnSpc>
              <a:spcBef>
                <a:spcPts val="575"/>
              </a:spcBef>
              <a:buClr>
                <a:srgbClr val="c00000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pplication lifecycl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80000"/>
              </a:lnSpc>
              <a:spcBef>
                <a:spcPts val="575"/>
              </a:spcBef>
              <a:buClr>
                <a:srgbClr val="c00000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pplication hinting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Volatile Ranges = the new hotn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13560" cy="12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Link Time Optimizatio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6840" y="1719000"/>
            <a:ext cx="8381880" cy="438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7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e http://lwn.net/Articles/512548/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7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ewer gcc (4.7) supports adding extra meta-data about routines (gimple) at compile tim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7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inker can now do whole-program optimization at link tim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7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ndi Kleen has 74 patches that add support to the Linux kernel for LTO featu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7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rk functions as 'visible' to avoid dead-code elimin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7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just compilation flags to be consist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7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d dependencies to avoid conflicts for features which can't conform to LTO requirements (ftrac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13560" cy="12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LTO (cont.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719000"/>
            <a:ext cx="8199360" cy="438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st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onger kernel builds (4x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memory during build (up to 9G required for allyesconfig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ubtle bugs from optimiz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80000"/>
              </a:lnSpc>
              <a:spcBef>
                <a:spcPts val="575"/>
              </a:spcBef>
              <a:buClr>
                <a:srgbClr val="c00000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E.g. duplicate code elimination caused a pointer comparison failur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enefit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ight now - NO size benef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erformance: (very preliminary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80000"/>
              </a:lnSpc>
              <a:spcBef>
                <a:spcPts val="575"/>
              </a:spcBef>
              <a:buClr>
                <a:srgbClr val="c00000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Hackbench – 5%, network benchmark – up to 18%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13560" cy="12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LTO (cont. 2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719000"/>
            <a:ext cx="8199360" cy="438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hy am I so excited about this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 have recently been studying automatic kernel reduction techniqu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05040" indent="-452520">
              <a:lnSpc>
                <a:spcPct val="8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t is not tractable to reduce kernel manual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05040" indent="-452520">
              <a:lnSpc>
                <a:spcPct val="8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hole system optimization is a critical part of automatic redu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05040" indent="-452520">
              <a:lnSpc>
                <a:spcPct val="8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TO and LLVM represent first systematic approach to proble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te: This work obsoletes -ffunction-sec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akes Linux-tiny in a whole new dire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13560" cy="12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ossible LTO benefit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719360"/>
            <a:ext cx="8305920" cy="46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6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an automatically drop unused global functions and variabl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6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uld cut down on ifdef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6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Partial inlining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6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line only parts of a function like a test at the begi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6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Optimize arguments to global function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6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op unnecessary args, optimize input/output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6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Detect function side effects and optimize calle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6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g. Caller can keep some globals in registers over cal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6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Detect read only variables and optimize them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6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Replace indirect calls with direct calls, enabling other optimizations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6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Do constant propagation and specialization for functions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6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a function is called commonly with a constant it can generate a special  variant of this function optimized for th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60000"/>
              </a:lnSpc>
              <a:spcBef>
                <a:spcPts val="575"/>
              </a:spcBef>
              <a:buClr>
                <a:srgbClr val="c00000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kmalloc_GFP_KERNEL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13560" cy="12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Volatile Rang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752120"/>
            <a:ext cx="8199360" cy="438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ork by John Stultz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spired by Android feature in ashme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80000"/>
              </a:lnSpc>
              <a:spcBef>
                <a:spcPts val="575"/>
              </a:spcBef>
              <a:buClr>
                <a:srgbClr val="c00000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http://lwn.net/Articles/468896/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80000"/>
              </a:lnSpc>
              <a:spcBef>
                <a:spcPts val="575"/>
              </a:spcBef>
              <a:buClr>
                <a:srgbClr val="c00000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http://lwn.net/Articles/500382/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lows cooperation between the kernel and applications on "volatile" memory usag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verview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pplication notifies kernel about re-claimable memory are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t mainlined y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13560" cy="12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Volatile Ranges Use Exampl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719000"/>
            <a:ext cx="8199360" cy="438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lication allocates memory and uses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rnel notifies app that memory is running 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lication marks areas that can be re-created (like image caches or layout areas) as volat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nel can free those areas if need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application wants to use the data, it tries to unmark it as volat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area was freed, the call fails – the application must regenerate th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area was not freed, the call succeeds – the application can use the data as 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13560" cy="12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Outlin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1752480" y="1719000"/>
            <a:ext cx="6904080" cy="438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800" spc="-1" strike="noStrike">
                <a:solidFill>
                  <a:srgbClr val="bfbfbf"/>
                </a:solidFill>
                <a:latin typeface="Arial"/>
              </a:rPr>
              <a:t>Kernel Version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800" spc="-1" strike="noStrike">
                <a:solidFill>
                  <a:srgbClr val="bfbfbf"/>
                </a:solidFill>
                <a:latin typeface="Arial"/>
              </a:rPr>
              <a:t>Technology Area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E Workgroup Project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800" spc="-1" strike="noStrike">
                <a:solidFill>
                  <a:srgbClr val="bfbfbf"/>
                </a:solidFill>
                <a:latin typeface="Arial"/>
              </a:rPr>
              <a:t>Other Stuff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800" spc="-1" strike="noStrike">
                <a:solidFill>
                  <a:srgbClr val="bfbfbf"/>
                </a:solidFill>
                <a:latin typeface="Arial"/>
              </a:rPr>
              <a:t>Resourc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13560" cy="12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Outlin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1752480" y="1719000"/>
            <a:ext cx="6904080" cy="438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Kernel Version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800" spc="-1" strike="noStrike">
                <a:solidFill>
                  <a:srgbClr val="bfbfbf"/>
                </a:solidFill>
                <a:latin typeface="Arial"/>
              </a:rPr>
              <a:t>Technology Area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800" spc="-1" strike="noStrike">
                <a:solidFill>
                  <a:srgbClr val="bfbfbf"/>
                </a:solidFill>
                <a:latin typeface="Arial"/>
              </a:rPr>
              <a:t>CE Workgroup Project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800" spc="-1" strike="noStrike">
                <a:solidFill>
                  <a:srgbClr val="bfbfbf"/>
                </a:solidFill>
                <a:latin typeface="Arial"/>
              </a:rPr>
              <a:t>Other Stuff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800" spc="-1" strike="noStrike">
                <a:solidFill>
                  <a:srgbClr val="bfbfbf"/>
                </a:solidFill>
                <a:latin typeface="Arial"/>
              </a:rPr>
              <a:t>Resourc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13560" cy="12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EWG Contract Work 2012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1719000"/>
            <a:ext cx="8199360" cy="438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MMC tun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ynamic memory redu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ainline FIQ debugg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nMan support for WiFi direc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mprove kexecboo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systemd and udev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BIFS robustness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-boot log buffer shar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13560" cy="12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MMC tuning guid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719000"/>
            <a:ext cx="8199360" cy="438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scription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s project will analyse EXT3, EXT4 and BTRFS on a variety of block-based flash parts on a few different development board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utput will be a document describing best practices for tuning Linux block-based filesystems for block-based flash filesystem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tractor: Cogent Embed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tatus: work has just begu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13560" cy="12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Dynamic memory reductio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719000"/>
            <a:ext cx="8199360" cy="438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6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scription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6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strument and collect data on kernel dynamic memory alloca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6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ke recommendations for areas where dynamic kernel memory usage could be reduc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6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ractor: Ezequiel Garci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6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atu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6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ork is under way to use existing kmem_events (ftrace) infrastructure to report dynamic memory usage in the kern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6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ome patches already accepted upstream to improve memory tracing infrastruc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6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ork is in progress to create tool for visualization of kernel memory usa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6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e http://elinux.org/Kernel_dynamic_memory_analysi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13560" cy="12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Drivers kmalloc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457200" y="1719000"/>
            <a:ext cx="8199360" cy="438156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2" descr="C:\Users\birdtr\Desktop\Jamboree42\drivers-kmalloc-kfree-ring.png"/>
          <p:cNvPicPr/>
          <p:nvPr/>
        </p:nvPicPr>
        <p:blipFill>
          <a:blip r:embed="rId2"/>
          <a:stretch/>
        </p:blipFill>
        <p:spPr>
          <a:xfrm>
            <a:off x="380880" y="1538280"/>
            <a:ext cx="8431200" cy="491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13560" cy="12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Linux kmalloc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719000"/>
            <a:ext cx="8199360" cy="438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2" descr="C:\Users\birdtr\Desktop\Jamboree42\linux-kmalloc-kfree-ring"/>
          <p:cNvPicPr/>
          <p:nvPr/>
        </p:nvPicPr>
        <p:blipFill>
          <a:blip r:embed="rId1"/>
          <a:stretch/>
        </p:blipFill>
        <p:spPr>
          <a:xfrm>
            <a:off x="458640" y="1066680"/>
            <a:ext cx="8426520" cy="56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13560" cy="12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Mainline FIQ debugger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719000"/>
            <a:ext cx="8199360" cy="438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7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p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7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ARM FIQ glue code and integrate with existing kernel debug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7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s use of ARM FIQ (non maskable interrupt) to activate a kernel debug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7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roid used it's own debug monitor, and has phones that are configured to trigger this on the earphone jack (also supplying a serial console on the earphone jac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7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u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7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ject is on hold because Anton Vorontsov is apparently already doing this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70000"/>
              </a:lnSpc>
              <a:spcBef>
                <a:spcPts val="575"/>
              </a:spcBef>
              <a:buClr>
                <a:srgbClr val="c00000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e https://lkml.org/lkml/2012/7/30/124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70000"/>
              </a:lnSpc>
              <a:spcBef>
                <a:spcPts val="575"/>
              </a:spcBef>
              <a:buClr>
                <a:srgbClr val="c00000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s should show in mainline soo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13560" cy="12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onnMann WiFi direc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719000"/>
            <a:ext cx="8199360" cy="438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scription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d support for WiFi direct to ConnMann wireless connection manag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tractor: ProFu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tatus: not engaged y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13560" cy="12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Improve kexecboot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1719000"/>
            <a:ext cx="8199360" cy="438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scription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ke improvements to kexecboot booload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upport load from networ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I improvem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tractor: Yuri Bushmelev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tatus: Finalizing contrac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13560" cy="12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Measure systemd and udev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1719000"/>
            <a:ext cx="8199360" cy="438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scription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asure the overhead and performance of system and udev, as used in embedded system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tatus: Not started y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13560" cy="12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UBIFS robustness work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1719000"/>
            <a:ext cx="8199360" cy="438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scription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d support for "power cut" simulations to UBIFS, to allow for finding and fixing filesystem bugs that occur when power is lo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tatus: Not started y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13560" cy="12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Kernel Version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719000"/>
            <a:ext cx="8199360" cy="438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inux v3.1 –  24 Oct 2011 – 95 day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arger due to kernel.org break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inux v3.2 – 4 Jan 2012 – 72 day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inux v3.3 – 18 Mar 2012 – 74 day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inux v3.4 – 20 May 2012 – 63 day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inux v3.5 – 21 July 2012 – 62 day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inux v3.6-rc6 – 16 Sep 201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pect v3.6 ANY DAY N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13560" cy="12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U-boot log buffer sharing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7200" y="1719000"/>
            <a:ext cx="8199360" cy="438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scription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d support for U-Boot and the Linux kernel to share their log buffer, to allow for easier collection of joint log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tatus: Not started y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13560" cy="12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Long-term Project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57200" y="1719000"/>
            <a:ext cx="8199360" cy="438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ndroid mainline projec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ong Term Support Initiative (LTSI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13560" cy="12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Android mainline statu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1719000"/>
            <a:ext cx="8199360" cy="438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3.3 kernel (with 12 lines of patches) boots AOS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eLinux status page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ttp://elinux.org/Android_Mainlining_Proje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as reported on at Kernel Summit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ttp://lwn.net/Articles/514901/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13560" cy="12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Mainline status (cont.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7200" y="1719000"/>
            <a:ext cx="8199360" cy="438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pecific piece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akelocks =&gt; autoslee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shmem =&gt; (partly) volatile rang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am console =&gt; persistent RA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roid USB gadget driv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arm-dev =&gt; POSIX alarm tim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Q glue code (in progres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PIO timers =&gt; LED triggers (??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ow memory killer =&gt; vmevents (??) in prog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13560" cy="12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Mainline status (cont. 2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57200" y="1719000"/>
            <a:ext cx="8199360" cy="438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hat's not been done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ogger – a few cleanups, but nothing to generalize it for other us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inder – a few people talking abou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O memory allocat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80000"/>
              </a:lnSpc>
              <a:spcBef>
                <a:spcPts val="575"/>
              </a:spcBef>
              <a:buClr>
                <a:srgbClr val="c00000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Work in progress to adopt features into dma-buf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etwork security – may stay out-of-tree forev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13560" cy="12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Android Meta-Issu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457200" y="1719360"/>
            <a:ext cx="8199360" cy="47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7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ocial issues have largely been worked ou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7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lin Cross was at Kernel Summ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7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body complains like they used t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7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inaro doing lots of "proxy" work on the featur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7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ndroid not using a continuous stream of kernels any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7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ll use selected kernel versions long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70000"/>
              </a:lnSpc>
              <a:spcBef>
                <a:spcPts val="575"/>
              </a:spcBef>
              <a:buClr>
                <a:srgbClr val="c00000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urrently plan to use 3.4 in next generation product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7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body really worries about "Android fork" any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7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ill lots of work left, thoug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13560" cy="12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Long Term Support Kernel for Industry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57200" y="1719000"/>
            <a:ext cx="8199360" cy="438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eda-san will have more information la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mall report from LTSI meeting at LinuxCon U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ernel version: 3.4 is the next big th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nd River supporting LTSI kern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Yocto Project supporting LTSI kern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80000"/>
              </a:lnSpc>
              <a:spcBef>
                <a:spcPts val="575"/>
              </a:spcBef>
              <a:buClr>
                <a:srgbClr val="c00000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Officially supported (very big news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roid using 3.4 kern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ext community long-term = 3.4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TSI 3.4 kernel is now open for contribu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13560" cy="12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LTSI support by Yocto Projec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719000"/>
            <a:ext cx="8199360" cy="438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lan to support multiple kernel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atest upstream kernel, 6 weeks prior to rele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TSI kern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upport qemu and 1 physical board per arch (arm, mips, ppc, x86, x86-64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s means kernel and distribution testing on 10 platform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jected kernels for Yocto Project releases (tentative)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1676520" y="5410080"/>
          <a:ext cx="6095880" cy="1011240"/>
        </p:xfrm>
        <a:graphic>
          <a:graphicData uri="http://schemas.openxmlformats.org/drawingml/2006/table">
            <a:tbl>
              <a:tblPr/>
              <a:tblGrid>
                <a:gridCol w="1523880"/>
                <a:gridCol w="914400"/>
                <a:gridCol w="1219320"/>
                <a:gridCol w="1218960"/>
                <a:gridCol w="1219320"/>
              </a:tblGrid>
              <a:tr h="36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P releas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rnel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2,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4 LTSI, 3.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4 LTSI,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8 LTSI, 3.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13560" cy="12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LTSI release schedul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57200" y="1719000"/>
            <a:ext cx="8199360" cy="438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rge window for LTSI 3.4 open for one mont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ust opened today (Sep 19 in U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hould be released by end of yea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eature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ony working on AXFS patch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sung working on F2FS patch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13560" cy="12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Outlin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752480" y="1719000"/>
            <a:ext cx="6904080" cy="438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800" spc="-1" strike="noStrike">
                <a:solidFill>
                  <a:srgbClr val="bfbfbf"/>
                </a:solidFill>
                <a:latin typeface="Arial"/>
              </a:rPr>
              <a:t>Kernel Version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800" spc="-1" strike="noStrike">
                <a:solidFill>
                  <a:srgbClr val="bfbfbf"/>
                </a:solidFill>
                <a:latin typeface="Arial"/>
              </a:rPr>
              <a:t>Technology Area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800" spc="-1" strike="noStrike">
                <a:solidFill>
                  <a:srgbClr val="bfbfbf"/>
                </a:solidFill>
                <a:latin typeface="Arial"/>
              </a:rPr>
              <a:t>CE Workgroup Project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ther Stuff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800" spc="-1" strike="noStrike">
                <a:solidFill>
                  <a:srgbClr val="bfbfbf"/>
                </a:solidFill>
                <a:latin typeface="Arial"/>
              </a:rPr>
              <a:t>Resourc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13560" cy="12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Linux v3.1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719000"/>
            <a:ext cx="8199360" cy="438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atchdog timer c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ew framework for handling power management domains was ad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e driver/base/power/domain.c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ultiple ARM SoCs now have device tree suppor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13560" cy="12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900" spc="-1" strike="noStrike">
                <a:solidFill>
                  <a:srgbClr val="330066"/>
                </a:solidFill>
                <a:latin typeface="Arial"/>
              </a:rPr>
              <a:t>Other Stuff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199360" cy="438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uild System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istribu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ndroi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dustry Organiza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ven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iscellaneou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13560" cy="12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900" spc="-1" strike="noStrike">
                <a:solidFill>
                  <a:srgbClr val="330066"/>
                </a:solidFill>
                <a:latin typeface="Arial"/>
              </a:rPr>
              <a:t>Tool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199360" cy="438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QEMU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05040" indent="-452520">
              <a:lnSpc>
                <a:spcPct val="8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QEMU is being used everywhere, for device emulation (Android, Yocto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05040" indent="-452520">
              <a:lnSpc>
                <a:spcPct val="8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avascript QEMU implementation (!!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clip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05040" indent="-452520">
              <a:lnSpc>
                <a:spcPct val="8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s now de-facto “umbrella” tool for develop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05040" indent="-452520">
              <a:lnSpc>
                <a:spcPct val="8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eed to pry seasoned developers away from command lin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ac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05040" indent="-452520">
              <a:lnSpc>
                <a:spcPct val="8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erf, Ftrace and LTTng 2.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05040" indent="-452520">
              <a:lnSpc>
                <a:spcPct val="8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mon Trace Format standar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13560" cy="12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Build System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199360" cy="438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Yocto projec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ome new thing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80000"/>
              </a:lnSpc>
              <a:spcBef>
                <a:spcPts val="575"/>
              </a:spcBef>
              <a:buClr>
                <a:srgbClr val="c00000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"HOB" graphical interfac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80000"/>
              </a:lnSpc>
              <a:spcBef>
                <a:spcPts val="575"/>
              </a:spcBef>
              <a:buClr>
                <a:srgbClr val="c00000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Builder image – created by Yocto Projec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ally can test YP with no external dependenc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ony is adopting Yocto Proje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13560" cy="12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Android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199360" cy="438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Android 4.1 (Jelly Bean) released July 201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ce Cream Sandwich unifies mobile, tablet and TV platforms in one codeb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hone activations at 1,00,000 per da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400 million activations tot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buntu for Androi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Very interesting – use Android device as PC, when connected to dock (large screen and keyboard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13560" cy="12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900" spc="-1" strike="noStrike">
                <a:solidFill>
                  <a:srgbClr val="330066"/>
                </a:solidFill>
                <a:latin typeface="Arial"/>
              </a:rPr>
              <a:t>Event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199360" cy="498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LC/Android Builders Summit – Feb 201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inuxCon Japan – June 201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Japan Jambore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ernel Summit/LinuxCon US/Plumb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ugust 201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mbedded Linux Conference Europe 201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vember 7-9, 2012 – Barcelona, Sp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mbedded Linux Conference 201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ebruary 20-22, 2013 – San Francisc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13560" cy="12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Highlights from recent event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57200" y="1719000"/>
            <a:ext cx="8199360" cy="438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lumb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eeing memory under press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80000"/>
              </a:lnSpc>
              <a:spcBef>
                <a:spcPts val="575"/>
              </a:spcBef>
              <a:buClr>
                <a:srgbClr val="c00000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John Stultz – "Letting Go"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80000"/>
              </a:lnSpc>
              <a:spcBef>
                <a:spcPts val="575"/>
              </a:spcBef>
              <a:buClr>
                <a:srgbClr val="c00000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http://www.linuxplumbersconf.org/2012/wp-content/uploads/2012/08/LettingGo.pdf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ini coredump (see next slid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ernel summi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RM mini-summ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80000"/>
              </a:lnSpc>
              <a:spcBef>
                <a:spcPts val="575"/>
              </a:spcBef>
              <a:buClr>
                <a:srgbClr val="c00000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Not enough embedded conten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about ARM64, big.LITTLE, single system image, et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13560" cy="12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Mini core dump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457200" y="1719000"/>
            <a:ext cx="8199360" cy="438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43160" indent="-443160"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ject to dump sparse core imag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43160" indent="-443160"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as a configuration-driven user ag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43160" indent="-443160"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re dumps with only requested information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886680" indent="-443160">
              <a:lnSpc>
                <a:spcPct val="8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an save basic register, backtrace, etc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86680" indent="-443160">
              <a:lnSpc>
                <a:spcPct val="8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ves only part of the process imag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43160" indent="-443160"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host, backfills the coredump with text, read-only data, etc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886680" indent="-443160">
              <a:lnSpc>
                <a:spcPct val="8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nce the mini-coredump is backfilled on the host you can use standard coredump analysis tools (gdb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43160" indent="-443160"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ject by Thomas Gleixn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13560" cy="12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900" spc="-1" strike="noStrike">
                <a:solidFill>
                  <a:srgbClr val="330066"/>
                </a:solidFill>
                <a:latin typeface="Arial"/>
              </a:rPr>
              <a:t>Miscellaneou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199360" cy="498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creased use of Stack Overfl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reat site for answering detailed development ques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0" lang="en-US" sz="2600" spc="-1" strike="noStrike">
                <a:solidFill>
                  <a:srgbClr val="3333cc"/>
                </a:solidFill>
                <a:latin typeface="Arial"/>
              </a:rPr>
              <a:t>www.youtube.com/watch?v=NWHfY_lvKIQ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oogle developers answer questions he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arch: “site:stackoverflow.com &lt;question&gt;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spberry P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tremely low-cost development board - $25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argeted at students and hobbyis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 Box 2"/>
          <p:cNvSpPr/>
          <p:nvPr/>
        </p:nvSpPr>
        <p:spPr>
          <a:xfrm>
            <a:off x="457200" y="1719360"/>
            <a:ext cx="8209080" cy="43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3333cc"/>
              </a:buClr>
              <a:buFont typeface="Arial"/>
              <a:buChar char="•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13560" cy="12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Linux wiki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57200" y="1719000"/>
            <a:ext cx="8199360" cy="438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http://elinux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Web site dedicated to information for embedded Linux develop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80000"/>
              </a:lnSpc>
              <a:spcBef>
                <a:spcPts val="575"/>
              </a:spcBef>
              <a:buClr>
                <a:srgbClr val="c00000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The wikipedia of embedded linux!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Hundreds of page covering numerous topic areas: bootup time, realtime, security, power management, flash filesystem, toolchain, edito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Working on new wiki project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Video transcription proje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Topic-by-topic cleanu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13560" cy="12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Video Transcription Projec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56840" y="1719000"/>
            <a:ext cx="8458200" cy="438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lan to ask volunteers to provide written versions of presentations from even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kes it easier to search for inform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an make it much faster to review a present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Volunteers can do as little as one minute of vide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80000"/>
              </a:lnSpc>
              <a:spcBef>
                <a:spcPts val="575"/>
              </a:spcBef>
              <a:buClr>
                <a:srgbClr val="c00000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dea is to crowd-source the effor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t advertised y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ill defining process and creating templa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ikely announced at ELC Europ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e http://elinux.org/Video_transcription_pro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13560" cy="12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Linux v3.2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719000"/>
            <a:ext cx="8199360" cy="438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ew pin control subsyste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lows control of multiple pins as named groups, with multiplex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e Documentation/pinctrlt.x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e ELC 2012 talk by Linus Walleij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vfreq – DVFS for non-cpu dev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M QOS now supports per-device constrain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e Documentation/power/pm_qos_interface.tx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e http://lwn.net/Articles/46623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13560" cy="12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1752480" y="1719000"/>
            <a:ext cx="6904080" cy="438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800" spc="-1" strike="noStrike">
                <a:solidFill>
                  <a:srgbClr val="bfbfbf"/>
                </a:solidFill>
                <a:latin typeface="Arial"/>
              </a:rPr>
              <a:t>Kernel Version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800" spc="-1" strike="noStrike">
                <a:solidFill>
                  <a:srgbClr val="bfbfbf"/>
                </a:solidFill>
                <a:latin typeface="Arial"/>
              </a:rPr>
              <a:t>Technology Area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800" spc="-1" strike="noStrike">
                <a:solidFill>
                  <a:srgbClr val="bfbfbf"/>
                </a:solidFill>
                <a:latin typeface="Arial"/>
              </a:rPr>
              <a:t>CE Workgroup Project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800" spc="-1" strike="noStrike">
                <a:solidFill>
                  <a:srgbClr val="bfbfbf"/>
                </a:solidFill>
                <a:latin typeface="Arial"/>
              </a:rPr>
              <a:t>Other Stuff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13560" cy="12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Resourc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199360" cy="438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LWN.n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2600" spc="-1" strike="noStrike">
                <a:solidFill>
                  <a:srgbClr val="3333cc"/>
                </a:solidFill>
                <a:latin typeface="Arial"/>
              </a:rPr>
              <a:t>http://lwn.net/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If you are not subscribed, please do s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ernel Newbi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2600" spc="-1" strike="noStrike">
                <a:solidFill>
                  <a:srgbClr val="3333cc"/>
                </a:solidFill>
                <a:latin typeface="Arial"/>
              </a:rPr>
              <a:t>http://kernelnewbies.org/Linux_3.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eLinux wiki - </a:t>
            </a:r>
            <a:r>
              <a:rPr b="0" lang="en-GB" sz="3000" spc="-1" strike="noStrike">
                <a:solidFill>
                  <a:srgbClr val="3333cc"/>
                </a:solidFill>
                <a:latin typeface="Arial"/>
              </a:rPr>
              <a:t>http://elinux.org/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Especially </a:t>
            </a:r>
            <a:r>
              <a:rPr b="0" lang="en-GB" sz="2600" spc="-1" strike="noStrike">
                <a:solidFill>
                  <a:srgbClr val="3333cc"/>
                </a:solidFill>
                <a:latin typeface="Arial"/>
              </a:rPr>
              <a:t>http://elinux.org/Events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for slid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Celinux-dev mailing lis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spcBef>
                <a:spcPts val="8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Thanks!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1371600" y="4019400"/>
            <a:ext cx="6400800" cy="17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13560" cy="12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Linux v3.3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719000"/>
            <a:ext cx="8153280" cy="438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RM large physcial address extens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e Catalin Marinas talk at ELC Europe 201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LSA support for compressed audi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ew “charger manager” subsyste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an partially resume to poll battery and re-susp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ndroid patches in stag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s is really coo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13560" cy="12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Linux v3.4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719000"/>
            <a:ext cx="8199360" cy="438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niversal Flash Storage host controller driv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e Documentation/scsi/ufs.tx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mon clock frame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nifies handling of subsystem clock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e Documentation/clk.tx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SI (High-speed synchronous serial interface) frame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sed for communication between CPU and cellular modem engin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13560" cy="12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Linux v3.4 (continued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719000"/>
            <a:ext cx="8199360" cy="438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MA buffer sharing API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moteproc subsyste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lows for control of other CPUs through shared memo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pmsg  is a new mechanism for communicating with other CPUs (running non-Linux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e Documentation/remoteproc.txt and rpmsg.tx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Satoru Ueda</dc:creator>
  <dc:description/>
  <dc:language>en-US</dc:language>
  <cp:lastModifiedBy>Bird, Tim</cp:lastModifiedBy>
  <dcterms:modified xsi:type="dcterms:W3CDTF">2012-09-19T23:36:31Z</dcterms:modified>
  <cp:revision>240</cp:revision>
  <dc:subject/>
  <dc:title>elinux status</dc:title>
</cp:coreProperties>
</file>